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2B22-C543-4485-B233-C4AD3C2D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231-F3EC-4B96-BF50-3583F9B1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26F-55E1-478B-BA2B-A49D5B5A9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FF9-AF8A-4498-992F-82BECF6D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3B2-5124-4811-84D2-455BD539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52A9-ED73-411E-AF8C-6212C76F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2786-F143-4B22-95EB-18678025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8F1-3D37-4828-93FB-D355202B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61AF-A3C4-4AE4-9632-598DF65A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6FD7-BC99-4E0F-8661-75659361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77A8-310D-4E78-B32A-0ECBDE09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4E4-3757-4577-813C-A75B2F0A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1492-DF6D-454E-99A6-A771F67B6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781680"/>
            <a:ext cx="175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Lucida Sans"/>
              </a:rPr>
              <a:t>Plug-in Name 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8610480"/>
            <a:ext cx="586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* Core Image users only (Mac OS 10.4 or better with a G4, G5 or Intel Ma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2855880" y="171324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9999"/>
                </a:solidFill>
                <a:latin typeface="Arial Narrow"/>
              </a:rPr>
              <a:t>Groupin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4989600" y="171324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9999"/>
                </a:solidFill>
                <a:latin typeface="Arial Narrow"/>
              </a:rPr>
              <a:t>Grouping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720720" y="5674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9999"/>
                </a:solidFill>
                <a:latin typeface="Arial Narrow"/>
              </a:rPr>
              <a:t>Grouping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2855880" y="56757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9999"/>
                </a:solidFill>
                <a:latin typeface="Arial Narrow"/>
              </a:rPr>
              <a:t>Grouping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989600" y="56757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9999"/>
                </a:solidFill>
                <a:latin typeface="Arial Narrow"/>
              </a:rPr>
              <a:t>Grouping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722160" y="171324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9999"/>
                </a:solidFill>
                <a:latin typeface="Arial Narrow"/>
              </a:rPr>
              <a:t>Grouping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72230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Lucida Sans"/>
              </a:rPr>
              <a:t>Plug-in Details 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6781680"/>
            <a:ext cx="175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Lucida Sans"/>
              </a:rPr>
              <a:t>Plug-in Name 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72230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Lucida Sans"/>
              </a:rPr>
              <a:t>Plug-in Details 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6781680"/>
            <a:ext cx="175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Lucida Sans"/>
              </a:rPr>
              <a:t>Plug-in Name 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72230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Lucida Sans"/>
              </a:rPr>
              <a:t>Plug-in Details 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819520"/>
            <a:ext cx="175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Lucida Sans"/>
              </a:rPr>
              <a:t>Plug-in Name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26088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Lucida Sans"/>
              </a:rPr>
              <a:t>Plug-in Details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2819520"/>
            <a:ext cx="175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Lucida Sans"/>
              </a:rPr>
              <a:t>Plug-in Name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26088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Lucida Sans"/>
              </a:rPr>
              <a:t>Plug-in Details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2819520"/>
            <a:ext cx="175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Lucida Sans"/>
              </a:rPr>
              <a:t>Plug-in Name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326088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Lucida Sans"/>
              </a:rPr>
              <a:t>Plug-in Details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8381880"/>
            <a:ext cx="586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Footnote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4:35:57Z</dcterms:created>
  <dc:creator>Mark Pazollli</dc:creator>
  <dc:description/>
  <dc:language>en-US</dc:language>
  <cp:lastModifiedBy>Mark Pazollli</cp:lastModifiedBy>
  <dcterms:modified xsi:type="dcterms:W3CDTF">2007-11-10T01:44:39Z</dcterms:modified>
  <cp:revision>13</cp:revision>
  <dc:subject/>
  <dc:title>PowerPoint Presentation</dc:title>
</cp:coreProperties>
</file>